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5BF-7F59-4D2B-A698-698EFF9D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B0E-C3C2-4A2B-BC4E-85709591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329-62CB-4E85-97FF-121FFF21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D91-3A68-43FA-9917-5FAB14EE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BE7-1BBB-4A91-84F8-480778CF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82F-3D64-418B-85BE-3229935C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A58-A0F4-43A6-B670-DDD6E79F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ED1-165F-428C-9C59-80DB9DCE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C50-1B37-4919-8E7F-93282DAB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93E-50F9-4CC6-A49C-D174F008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CF8-1017-43E2-9193-29D144F2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513-792F-4902-990D-470AC83B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32A0-DDA3-40CF-8482-B87F11DD93C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NINE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42920" y="1785960"/>
            <a:ext cx="871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ἀφεντες τον πατερα αὐτων Ζεβεδαιον ἐν τῳ πλοιῳ μετα των ἀλλων ἀπηλθον ὀπισω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ἀποκριθεις εἰπεν αὐτοις∙ Δοτε αὐτοις ὑμεις φαγ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ακαριοι οἱ πεινωντες και διψωντες την δικαιοσυν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ποιων την ἀληθειαν ἐρχεται προς το φως, ἱνα φανερωθῃ αὐτου τα ἐργ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... ἱνα παντες τιμωσι τον υἱον καθως τιμωσι τον πατερα, ὁ μη τιμων τον υἱον οὐ τιμᾳ τον πατερα τον πεμψαντα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πεν αὐτοις ὁ Ἰησους∙ Ἐγω εἰμι ὁ ἀρτος της ζωης∙ ὁ ἐρχομενος προς ἐμε οὐ μη πεινασῃ, και ὁ πιστευων εἰς ἐμε οὐ μη διψησ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908520" y="124308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42920" y="1571760"/>
            <a:ext cx="87152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υτο δε ἐστιν το θελημα τ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μψαντος με, ἱνα παν ὃ δεδωκεν μοι μη ἀπολεσω ἐξ αὐτου, ἀλλα ἀναστησω αὐτο ἐν τῃ ἐσχατῃ ἡμερ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ὑτος ἀκουσας ὁτι Ἰησους ἡκει ἐκ της Ἰουδαιας εἰς την Γαλιλαιαν ἀπηλθεν προς αὐτον και ἠρωτα ἱνα καταβῃ και ἰασηται αὐτου τον υἱον, ἠμελλεν γαρ ἀποθνῃσκ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he perished, he rose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rong man will win – he labours and lives to win (for ‘win’ us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νικαω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sked where she was bo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led them astray from the path; who can justify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42920" y="17859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γαπητοι, ἀγαπωμεν ἀλληλους, ὁτι ἡ ἀγαπη ἐκ του θεου ἐστιν, και πας ὁ ἀγαπων ἐκ του θεου γεγεννηται και γινωσκει 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τα τουτο εἰδως ὁ Ἰησους ὁτι ἠδη παντα τετελεσται, ἱνα πληρωθῃ ἡ γραφη, λεγει∙ Διψ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νεδυσαν αὐτον τα ἱματια αὐτου και ἀπηγαγον [= ἀπ-ἀγω] αὐτον εἰς το σταυρωσαι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δε εἰπαν αὐτῳ∙ Δος ἡμιν ἱνα εἱς σου ἐκ δεξιων και εἱς ἐξ ἀριστερω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θισωμεν ἐν τῃ δοξῃ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 οὐν ποιησει ὁ κυριος του ἀμπελων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ἐλευσεται και ἀπολεσει τους διακονους και δωσει τον ἀμπελωνα ἀλλο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Ἰησους προσεκαλεσατο αὐτους λεγων∙ Ἀφετε τα παιδια ἐρχεσθαι προς με∙ των γαρ τοιουτων ἐστιν ἡ βασιλεια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908520" y="124308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42920" y="1571760"/>
            <a:ext cx="871524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τολην καινην διδωμι ὑμιν, ἱνα ἀγαπατε ἀλληλους∙ καθως ἠγαπησα ὑμας ἱνα και ὑμεις ἀγαπατε ἀλληλ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ῳ λαλειν τους μαθητας αὐτος ὁ Ἰησους ἐστη ἐν μεσῳ αὐτων και λεγει αὐτοις∙ Εἰρηνη ὑμ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knows to give good things in order to honour his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ild, filled with wisdom, said [us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ημι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I am standing where you left me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promise was fulfilled and he appeared standing before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laced his hands on the sick child with the result that the child was hea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214200" y="1219320"/>
            <a:ext cx="87156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3.24-30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ἐὰν βασιλεία ἐφ’ ἑαυτὴν μερισθῇ [μεριζω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οὐ δύναται σταθῆναι ἡ βασιλεία ἐκείνη∙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5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ἐὰν οἰκία ἐφ’ ἑαυτὴν μερισθῇ, οὐ δυνήσεται ἡ οἰκία ἐκείνη σταθῆναι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6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εἰ ὁ Σατανᾶς ἀνέστη ἐφ’ ἑαυτὸν καὶ ἐμερίσθη, οὐ δύναται στῆναι ἀλλὰ τέλος ἔχει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7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ἀλλ’ οὐ δύναται οὐδεὶς εἰς τὴν οἰκίαν τοῦ ἰσχυροῦ εἰσελθὼν τὰ σκεύη αὐτοῦ διαρπάσαι [διαρπαζω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lunder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ἐὰν μὴ πρῶτον τὸν ἰσχυρὸν δήσῃ, καὶ τότε τὴν οἰκίαν αὐτοῦ διαρπάσει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8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Ἀμὴν λέγω ὑμῖν ὅτι πάντα ἀφεθήσεται τοῖς υἱοῖς τῶν ἀνθρώπων τὰ ἁμαρτήματ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n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αἱ βλασφημία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lasphemie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ὅσα ἐὰν βλασφημήσωσιν∙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9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ὃς δ’ ἂν βλασφημήσῃ εἰς τὸ πνεῦμα τὸ ἅγιον, οὐκ ἔχει ἄφεσι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orgivenes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ς τὸν αἰῶνα, ἀλλὰ ἔνοχό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uilt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στιν αἰωνίου ἁμαρτήματος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0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ὅτι ἔλεγον, Πνεῦμα ἀκάθαρτον ἔχει.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1:43:15Z</dcterms:created>
  <dc:creator>Sarah</dc:creator>
  <dc:description/>
  <dc:language>en-US</dc:language>
  <cp:lastModifiedBy>Sarah</cp:lastModifiedBy>
  <dcterms:modified xsi:type="dcterms:W3CDTF">2009-07-09T19:15:22Z</dcterms:modified>
  <cp:revision>19</cp:revision>
  <dc:subject/>
  <dc:title>Slide 1</dc:title>
</cp:coreProperties>
</file>